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A9A3541-0184-4872-9292-C4FD3704C89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339840" y="80028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74668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Sociālā uzņēmējdarbība ļauj risināt sociālās problēmas ar biznesa instrumentiem - uzņēmums ražo preces vai sniedz pakalpojumus ar mērķi risināt sociālo problēmu, nevis ar mērķi gūt finansiālu labumu uzņēmuma īpašnieki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eidojot sociālo uzņēmumu, pirmais ar ko būtu jāsāk ir izzināt mūsu sabiedrības problēmas un vajadzība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ejot no tā, definē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sava uzņēmuma sociālo mērķi (tam ir jābūt pozitīvai sociālai ietekmei un jābūt definētam statūtos vai citā līdzvērtīgā dokument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biznesa ideju, kurai tici un kura ilgtermiņā būs dzīvotspējīga (tai jānes peļņu, lai varētu konkurēt ar citiem uzņēmumiem tirgū un   investēt sociālajos uzņēmuma mērķo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8B9478E-288A-48DB-AD12-E409C5B1D71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EB2D-A87B-452A-9F08-25FB1BD9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A5C3-94F5-48E4-A615-BF40CDD8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1AC508-2F2D-4246-8D70-7654CED9981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1600D3-CD9E-4C6C-ABBF-111A7C554E7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C114DD-4E5D-4029-B0FA-4D771D5F1F9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85B223-B8CB-46DD-B441-D2A86951631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C2DCE4-2395-4603-ADDF-4EB87AD9118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B9E9AF-6B9E-41AE-8604-4AA7E8EAB30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1E72D7-E3C6-4D65-9650-2042866E275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6E37BD-2B2F-486A-B2EB-2DCCF757062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4627DB-7B0E-451F-B1CA-15C2557E25C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47F4-8EB3-496C-B992-E55E1CE6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CF3-E47C-4C01-862E-D5A228FB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AB7160-1EAC-4230-9741-E2DEC84C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9ABA55-8616-407F-8A76-FEDB0146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AB2C8D-98DD-4601-8982-9CB7FA35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5904CB-5756-4756-B35D-FD0AC65C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4FC68B-4489-4201-9BC3-3E04F91F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A26CAD-BB77-40E3-842B-DAA15A38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3876C3-141A-45BC-BDC2-40ECDC22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17C62C-B386-4349-99CD-3C4C7B3F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E5EC43-404A-4F14-B7D4-47C3B721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657F99-CA75-4503-BBDA-6E2CA027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0FE2B8-9B28-4D80-A204-A69EE699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35DF8A-EA43-4A62-B520-8385A2C9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BD9627-2E18-4DE7-8717-D9E857A5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25AE7F-9210-4DFC-978C-3DD3BCA6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7C18E5-879E-4E7E-82D6-EA13E56A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CDA112-5797-4E18-8A6E-DFE2C66E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8A42EF-B1A9-48B6-8069-887547E5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1D22E5-2367-450A-9727-EFE532D8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8F61C5-213C-42AF-9644-D7C1C0A2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E1FBE4-DA18-4D80-BFCC-E9BF39EF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648DC6-65F8-4615-9A12-0C1FB1D2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2BF888-86B0-4C80-8ED7-6B295D68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3A8E2F-646E-4362-A093-2E66F139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2E33DF-DD05-4849-9675-10AE399F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96A46A-8D89-4723-8F15-7AD47645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D9DD41-F4F6-4E6E-A333-60A13B28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E5186A-F9A6-40DC-9FFA-36BC5518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484463-0376-4C16-AF89-435DBB38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DAFCC5-D7EC-48E8-80F4-69D14604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6EDE5D-502B-48FD-A662-37F02DAD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4FF86C-D777-4FE9-A57B-3BEFFA43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4AD0A0-4234-44A0-A038-F2D9E498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983B3B-D9E7-4D9B-BB8C-F1656461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0FEC5C-454C-4A41-925A-6803F284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9236FB-5AC5-488D-8DF1-ED0EFF3A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DFD52B-6E4E-49BF-BF1C-E444C690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802A-64FF-4D68-976C-6F2CADB5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06636-AEB8-4087-A67E-F3F54DC78C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0603D-E612-461D-8627-3011E7E3D9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B64DB-FCFE-485F-926D-8B961B722C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CB2B2-1E47-4D5F-9724-8E08C4017F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BBA89-FB6D-4945-9DAF-4E797909AF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EAD-272A-49D9-8C70-F1A83E61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D7835-657D-4EB0-A0EE-C468D9E4E2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67470-6C5F-48CB-9E48-C9E482DDBB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79605-25B5-4CAF-BFEB-63C7625524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2A4C7-D4DD-43BE-A2C6-76600773CE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38186-8FB6-4EDA-AD5F-87797E9DFF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11DC0-C29A-47FB-A3BD-7FF6E57DAB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F8BCD-7343-4DC4-ACAA-20CF767812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29C86-E045-4158-BC7E-AF55C87D30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5AFE3-C79F-4523-ADF8-6D1270D0B2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9B569-C7A0-44FA-87FF-3A7F248A2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933-492F-4464-9983-7CED36FC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FA946-6049-4FE2-B509-16D2F46C02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6C8D6-76CD-4020-A37F-9D5B0F7CCD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884C0-3979-401A-86B9-C133AAB2C4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0E73E-18E7-4A57-80FF-9407986F01D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848E5-3557-4623-B0E8-6407D0448BC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DC290-F006-4816-907F-1E1EBAE5C8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897E8-F621-4824-BD8B-2400969EB1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F6201-E17A-42AF-833C-5DF49A9A6D8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44F05-8510-4694-B160-8DE167387DB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D066-DA58-4122-88C9-AB50DB706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7D6-CA89-4C63-9587-214A70FF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20D3-AB7B-4C3A-AA10-8084522192F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618F-855C-4019-AA7A-4AA648B6E3D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B99A-9B1E-49FD-90EF-89705E58153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3260-A9D7-4329-80DC-6FF3568A830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28F5-7FE3-49CE-A290-6BBF84A20E8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63ED-639C-424E-9D15-6FA8D183B18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6464-913A-4F3A-B33B-FADE62082A9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31C9-7559-4B72-9ADE-F82C9C7FF3D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3F58-5767-4DC7-89D8-1B1519F2242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F6C3-2584-4394-BCF5-B15AD87BC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475-D60A-4E9C-B8AC-86B91006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1523-BFBB-4407-BBC2-89412B54BC3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352FF7-5054-4D6B-A514-A5B0590391A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7E116D-7CC1-4BD2-9B95-C6FC45FE010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97524F-FE9C-4DCC-A533-953FEC18BE0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838E74-626C-4248-87DD-B3970122036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DB430C-4E93-4C18-8CB4-AE6B32DFBED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7685EA-14AE-442B-9823-E0184EC027E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EEA792-B23F-4828-B414-20C16FF19F3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0C5C3A-2256-4DA8-B795-2E350E72223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30A6BE-FC7C-491E-95C2-4870EDA88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1077-BADD-435A-85EC-CD795601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95DAD6-C0AB-45F4-8692-3620C482ACD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E87E2D-12C0-40F7-B3EB-226D9123AFE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1DAABA-C0FE-408F-93FB-99456646F3E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347B7-A27E-4D0D-88FD-C6BEF7FE26C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BA952-08B2-4B66-B22D-9CB0BAB861D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BCCF3-B698-41EB-97F4-4401E9B2A5F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DB8E5-51F4-48F7-BBEC-93C52D9AFC7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605010-754C-409D-AFA2-0E3688DAE50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8C3A7-654F-42D9-97A8-6209FF790E3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67B7F-C77B-440F-AB17-38B7F7A6D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299-DB11-441C-B8A7-0C2E8C8A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EB48B-3FE0-4CFE-9556-C144DC0760D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A5D8F-2B9A-4170-8B0A-2714607493A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ED1D8-13DC-4126-9369-91326AFF2EC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657CD-D893-42F8-A097-59D0B8D5F54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36E6B-57DD-4F09-A413-480EBE631C0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142CE-459B-4B4A-A109-3A57E0E3B43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3F7D0-728F-4C07-97D9-906569913DC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7364C-CB2B-468E-9F8E-37383ACE0FE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9F4B5-6829-4339-AC1A-63DC6C8824B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2410B-5288-4ECE-BC00-408AA2244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6E2-C386-4665-8994-CBCBFA4D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27530-BD77-4548-A38F-95CD2F74A6B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650C0-E475-4AC5-AFE5-93DDBD19ABE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D5146-7BF9-4EDC-8FE0-9202A2095B5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A87F9-E6EC-4F95-9FDB-6EE917259C7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4DCAE-343B-456B-960E-55E62FFF459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D3CB2-F462-45A1-B58E-C0A92271228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AAAD0-BA6E-4012-B611-98D452602BB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BB9B79-5E9F-47BD-9E23-4EBA143F6EA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BF38B5-2128-49FD-AED5-DE37980CF5D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AF2B5E-F5E7-4734-B816-52BA38F44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61D615B-FFF4-4E07-AFCA-39B42D038BC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64E8EF6-D4EB-40F3-9D75-C4A89CC6B9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3C8B79D-8796-405F-9763-99D02D464E4D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E0D4F0B-8E1B-4D4C-8ED5-0EE88D285FDE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934C35-7B04-4759-ADC6-25498AE029B1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5698FF6-3AFB-4C15-A01D-6255C47B80C2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C528EAA-0285-4411-8D5F-8DA6ADDEC7A9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8209BA4-E749-4239-99BA-69ED327BE298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3892A07-0BE2-458D-B8E0-1452633FCCB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DAB3792-DE8E-4F3B-BBFB-E54A564541F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C75E358-F5B4-416D-8572-9E69012CAC2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C9AB8E4-287C-4892-88D4-9ABE1518856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3DCF9B7-6963-46B3-BAC1-A23403046EC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DA586B9-F833-4C76-B16D-3D5089A7A73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A324037-8E99-4260-A0D8-F3C344B3B69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66880" y="281304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projekta</a:t>
            </a:r>
            <a:br>
              <a:rPr sz="1900"/>
            </a:b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«Atbalsts sociālajai uzņēmējdarbībai»</a:t>
            </a:r>
            <a:r>
              <a:rPr b="1" lang="lv-LV" sz="2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br>
              <a:rPr sz="2600"/>
            </a:br>
            <a:r>
              <a:rPr b="1" lang="lv-LV" sz="1100" spc="-1" strike="noStrike">
                <a:solidFill>
                  <a:srgbClr val="404040"/>
                </a:solidFill>
                <a:latin typeface="Verdana"/>
                <a:ea typeface="Verdana"/>
              </a:rPr>
              <a:t>vienošanās Nr. 9.1.1.3/15/I/001 </a:t>
            </a:r>
            <a:br>
              <a:rPr sz="700"/>
            </a:br>
            <a:br>
              <a:rPr sz="1900"/>
            </a:br>
            <a:br>
              <a:rPr sz="1600"/>
            </a:br>
            <a:br>
              <a:rPr sz="2000"/>
            </a:br>
            <a:br>
              <a:rPr sz="2200"/>
            </a:br>
            <a:br>
              <a:rPr sz="1900"/>
            </a:br>
            <a:br>
              <a:rPr sz="1900"/>
            </a:br>
            <a:br>
              <a:rPr sz="1700"/>
            </a:br>
            <a:br>
              <a:rPr sz="1700"/>
            </a:br>
            <a:br>
              <a:rPr sz="13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8640" y="587988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128680" y="4994280"/>
            <a:ext cx="5248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30040" y="1116000"/>
            <a:ext cx="68180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par projek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1866600"/>
            <a:ext cx="91137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s tiks īstenot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darbības programmas „Izaugsme un nodarbinātība” 9.1.1. specifiskā atbalsta mērķa „Palielināt nelabvēlīgākā situācijā esošu bezdarbnieku iekļaušanos darba tirgū” 9.1.1.3.pasākuma «Atbalsts sociālajai uzņēmējdarbībai»  ietvar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tāj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Labklājības ministrij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partneri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pt-BR" sz="1700" spc="-1" strike="noStrike">
                <a:solidFill>
                  <a:srgbClr val="404040"/>
                </a:solidFill>
                <a:latin typeface="Verdana"/>
                <a:ea typeface="Verdana"/>
              </a:rPr>
              <a:t>AS "Attīstības finanšu institūcija Altum"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lānotās izmaksa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0" lang="lv-LV" sz="1700" spc="-1" strike="noStrike">
                <a:solidFill>
                  <a:srgbClr val="404040"/>
                </a:solidFill>
                <a:latin typeface="Times New Roman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19 920 206</a:t>
            </a:r>
            <a:r>
              <a:rPr b="0" i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euro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šanas laik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2016.gada 4.janvāris - 2022.gada 31.decembri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2A09356-560B-4964-AB3D-0049E5D196A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6969240" y="-68400"/>
            <a:ext cx="170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7DB5BC0-F2EB-4BE7-80AB-AA3E712CE4E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44200" y="780840"/>
            <a:ext cx="5992920" cy="1083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Kas ir sociālā uzņēmējdarbīb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582480" y="1515960"/>
            <a:ext cx="818208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ā uzņēmuma izveides mērķis ir vērsts uz sociālo vai sabiedrībai nozīmīgo problēmu risināš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ir tirgus dalībnieki, kas ražo preces un sniedz pakalpoju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gūto peļņu investē sociālā mērķa sasniegša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Tiek nodarbināti algoti darbini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sociālajos uzņēmumos, kuru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sabiedrībai svarīgas sociālas problēmas risināj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un nodarbināti darbinieki, ar kuriem nodibinātas darba tiesiskās attiecīb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darba integrācijas uzņēmumi - sociālo uzņēmumu veids, kuru galvenais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riska grupu nodarbinātīb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– integrācija darba tirg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8" descr=""/>
          <p:cNvPicPr/>
          <p:nvPr/>
        </p:nvPicPr>
        <p:blipFill>
          <a:blip r:embed="rId1"/>
          <a:stretch/>
        </p:blipFill>
        <p:spPr>
          <a:xfrm>
            <a:off x="7547040" y="111240"/>
            <a:ext cx="145260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3160" y="488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4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Content Placeholder 7" descr=""/>
          <p:cNvPicPr/>
          <p:nvPr/>
        </p:nvPicPr>
        <p:blipFill>
          <a:blip r:embed="rId1"/>
          <a:stretch/>
        </p:blipFill>
        <p:spPr>
          <a:xfrm>
            <a:off x="7151760" y="446040"/>
            <a:ext cx="1009440" cy="1063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12800" y="1712880"/>
            <a:ext cx="7920000" cy="440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ir noteikt un pārbaudīt optimālus risinājumus sociālo uzņēmumu izveidei un attīstībai, tai skaitā darba integrācijas sociālo uzņēmumu atbalstam, lai palielinātu nodarbinātības iespēja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nelabvēlīgākā situācijā esošiem bezdarbniekie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personām ar invaliditāti un personām ar garīga rakstura traucējumiem</a:t>
            </a:r>
            <a:r>
              <a:rPr b="0" lang="lv-LV" sz="1400" spc="-1" strike="noStrike">
                <a:solidFill>
                  <a:srgbClr val="404040"/>
                </a:solidFill>
                <a:latin typeface="Verdana"/>
              </a:rPr>
              <a:t>.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ietvaros tiks izveido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balsta sistēm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ietver sociālo uzņēmumu atlases kritērijus un atbalsta instrumentus. Tāpat atbalsta sistēmas ietvaros izstrādāts pasākuma dalībnieku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s un uzsākts reģistrācijas process, kurā varēs iesaistīties komersanti, biedrības un nodibināju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s ļaus noteikt efektīvākās atbalsta formas sociālo uzņēmumu attīstībai, lai tiktu veidoti jauni uzņēmumi, radītas darba vietas un ieviestas jaunas un efektīvas pieejas sociālu problēmu risināšan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AF3F77C-71B5-4AB5-ACC4-76A0267A387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71680" y="509400"/>
            <a:ext cx="651816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0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aktivitā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7160" y="1531440"/>
            <a:ext cx="8364240" cy="562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biedrības izpratnes veidošanas un izglītošanas pasākum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r jaunā projekta iniciatīvu, par sociālās uzņēmējdarbības pazīmēm/kritērijiem, par atbalsta sniegšanas iespējām sociālajai uzņēmējdarbībai un šādas uzņēmējdarbības  pieredzi, projekta mērķa grupu un sabiedrības informēšana saistībā ar projekta uzsākša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(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)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a izstrāde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- projekta rezultātā izstrādāti un ieviest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zīmes/kritērij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pazīstamīb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 atlase un reģistrācija (īsteno LM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atbalsta sniegšan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mersantiem, biedrībām, nodibinājumiem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ALT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 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balsta sniegšana sociālās uzņēmējdarbības uzsācējie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ideju konkursa organizēšan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nsultāciju nodrošināšana sociālās uzņēmējdarbības uzsācēju biznesa plānu izstrāde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6629400"/>
            <a:ext cx="198108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76920" y="6583320"/>
            <a:ext cx="365760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9D5511F-8B6C-4E9B-9028-2A2D9811C71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Attēlu rezultāti vaicājumam “photos for registration”"/>
          <p:cNvPicPr/>
          <p:nvPr/>
        </p:nvPicPr>
        <p:blipFill>
          <a:blip r:embed="rId1"/>
          <a:stretch/>
        </p:blipFill>
        <p:spPr>
          <a:xfrm flipH="1" rot="18840000">
            <a:off x="7716240" y="243360"/>
            <a:ext cx="1182600" cy="1182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"/>
          <p:cNvPicPr/>
          <p:nvPr/>
        </p:nvPicPr>
        <p:blipFill>
          <a:blip r:embed="rId2"/>
          <a:stretch/>
        </p:blipFill>
        <p:spPr>
          <a:xfrm>
            <a:off x="7989840" y="4873680"/>
            <a:ext cx="102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64880" y="550800"/>
            <a:ext cx="6751800" cy="104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ieteikšanās reģistrācijai </a:t>
            </a:r>
            <a:br>
              <a:rPr sz="2400"/>
            </a:b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un a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ヒラギノ角ゴ Pro W3"/>
              </a:rPr>
              <a:t>tbalsta saņemšana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2A88729-1066-48DA-913C-5CC76104EF6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1211400" y="2538360"/>
            <a:ext cx="1638000" cy="1636920"/>
          </a:xfrm>
          <a:prstGeom prst="rect">
            <a:avLst/>
          </a:prstGeom>
          <a:ln w="0">
            <a:noFill/>
          </a:ln>
        </p:spPr>
      </p:pic>
      <p:cxnSp>
        <p:nvCxnSpPr>
          <p:cNvPr id="560" name="Straight Arrow Connector 7"/>
          <p:cNvCxnSpPr/>
          <p:nvPr/>
        </p:nvCxnSpPr>
        <p:spPr>
          <a:xfrm flipV="1">
            <a:off x="3018240" y="2562840"/>
            <a:ext cx="930240" cy="3434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4199040" y="1919160"/>
            <a:ext cx="11412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562" name="Straight Arrow Connector 9"/>
          <p:cNvCxnSpPr/>
          <p:nvPr/>
        </p:nvCxnSpPr>
        <p:spPr>
          <a:xfrm>
            <a:off x="4876560" y="3123720"/>
            <a:ext cx="1080" cy="963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3" name="Picture 11" descr=""/>
          <p:cNvPicPr/>
          <p:nvPr/>
        </p:nvPicPr>
        <p:blipFill>
          <a:blip r:embed="rId3"/>
          <a:stretch/>
        </p:blipFill>
        <p:spPr>
          <a:xfrm>
            <a:off x="4199040" y="414972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564" name="Straight Arrow Connector 11"/>
          <p:cNvCxnSpPr/>
          <p:nvPr/>
        </p:nvCxnSpPr>
        <p:spPr>
          <a:xfrm>
            <a:off x="3019320" y="4013280"/>
            <a:ext cx="953280" cy="3589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5" name="Content Placeholder 8"/>
          <p:cNvSpPr/>
          <p:nvPr/>
        </p:nvSpPr>
        <p:spPr>
          <a:xfrm>
            <a:off x="5673600" y="1797120"/>
            <a:ext cx="28051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1f497d"/>
                </a:solidFill>
                <a:latin typeface="Verdana"/>
              </a:rPr>
              <a:t>Labklājības ministr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reģistrēja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LM pasākuma dalībnieku reģistr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Content Placeholder 8"/>
          <p:cNvSpPr/>
          <p:nvPr/>
        </p:nvSpPr>
        <p:spPr>
          <a:xfrm>
            <a:off x="835200" y="4305240"/>
            <a:ext cx="244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Verdana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1f497d"/>
                </a:solidFill>
                <a:latin typeface="Verdana"/>
              </a:rPr>
              <a:t>Komersants, biedrība, nodibināj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5562720" y="4149720"/>
            <a:ext cx="2728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iesniedz biznesa plān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ALTUM (vērtē ALTUM) un sociālās ietekmes apraksts (vērtē LM),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tiek slēgts līgums par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finanšu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atbalsta saņemš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0920" y="544320"/>
            <a:ext cx="6096240" cy="1035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Turpmāk plānotās aktivitātes 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39760" y="1795320"/>
            <a:ext cx="6718320" cy="4510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tlaban norisinās darbs pie Ministru kabineta noteikumu grozījumu izstrādes 2015.gada 11.augusta noteikumiem Nr.467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Darbības programmas "Izaugsme un nodarbinātība" 9.1.1. specifiskā atbalsta mērķa "Palielināt nelabvēlīgākā situācijā esošu bezdarbnieku iekļaušanos darba tirgū" 9.1.1.3.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"Atbalsts sociālajai uzņēmējdarbībai"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īstenošanas noteikumi» ietva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ācij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sākuma dalībnieku reģistrā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n atbalsta saņemšana ALTUM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sies </a:t>
            </a:r>
            <a:r>
              <a:rPr b="1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ēc MK noteikumu Nr.467 grozījumu stāšanās spēk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560FF41-723B-4C73-9057-1FAC59E157F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7186680" y="3838680"/>
            <a:ext cx="1728720" cy="1726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2"/>
          <a:stretch/>
        </p:blipFill>
        <p:spPr>
          <a:xfrm>
            <a:off x="6878520" y="1365120"/>
            <a:ext cx="22654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28880" y="60300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biedrībām un nodibinājumi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93760" y="1638360"/>
            <a:ext cx="8393040" cy="4991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2016.gada 15.decembrī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R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eimā  pirmajā lasījumā  pieņem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lik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aredz, ka sociālā uzņēmuma statusu Latvijā varēs iegūt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komersan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(plānotā spēkā stāšanās 2018. gada 1. janvārī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ikuma apstiprināšanas un spēkā stāšanās gadījumā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rojekta ietvaros 2017.gadā būs noslēguši līgumu ar «Altum» par finanšu atbalsta saņemšanu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varēs turpināt darboties esošajā biedrības un nodibinājuma statusā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līguma darbības laikā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kārtotai pretendēšanai finanšu atbalsta saņemšanai projekta ietvaro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no 2018. gada 1. janvāra, biedrībai un nodibinājumam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būs jāpārreģistrējas par komersantu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skaņā ar jauno liku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 tiks informēt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r iespējamām izmaiņām projekta ietvaros un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tālāko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īcību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F57E9C6-3E8E-4836-81D8-14C511DF245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66480" y="3225600"/>
            <a:ext cx="8289720" cy="2508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lv-LV" sz="2800" spc="-1" strike="noStrike">
                <a:solidFill>
                  <a:srgbClr val="404040"/>
                </a:solidFill>
                <a:latin typeface="Verdana"/>
                <a:ea typeface="Verdana"/>
              </a:rPr>
              <a:t>Pald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Raitis Bukovskis</cp:lastModifiedBy>
  <cp:lastPrinted>2017-01-24T12:45:49Z</cp:lastPrinted>
  <dcterms:modified xsi:type="dcterms:W3CDTF">2017-02-13T09:51:00Z</dcterms:modified>
  <cp:revision>420</cp:revision>
  <dc:subject/>
  <dc:title>PowerPoint Presentation</dc:title>
</cp:coreProperties>
</file>